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FF54A-B065-4FAD-B4CF-F3BCE41E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E207A-D169-4A66-A655-C3F88B15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1EFCD-3DBE-45B8-9D73-908B9EFB8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7BCB9-31AC-43EC-8823-7D1CF9C6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43CF-FB2A-4378-A09B-B0BA261D2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186C-FA74-4033-BCE5-DF442563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BAA3-E463-4478-8A5E-B2521E5A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2741-DB0B-4072-8FF0-EB29D3CB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CD00-E4A1-4350-AA29-588F43A1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5C03-DAD9-4797-9E3B-E73A34BA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14D4-0E9A-42F7-9953-EEAE7B2E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28D65-9998-4875-BDB8-B7E45BCE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F139-2084-47DB-8BAB-001C47C2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D5EC-7D61-4362-B52A-A712FF4D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7361-2D81-47F3-B870-32D8EA43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9BB9-F222-4F3D-84EA-D1E7D484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1884-9552-4B14-A402-1CDDAB17F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6C2B5-89A7-432C-9270-75E99288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C20EC-30D4-4985-96AB-4FB4B3E7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E0242-FA99-43A3-B0DE-7E149DDF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D5A1B-1164-4E3C-8AE1-8638E178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1F4F3-EC8F-4CA1-9359-FBD1C2EA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C4A18-2064-44C9-A730-AA55FCA5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7E5E9-C57A-43BD-81CE-2336F2A7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2F71-CCB2-4E88-96C0-80A9909CC6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FF92-CA2D-4095-8352-763F8F29D2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ВЛИЯНИЕ НАРКОТИКОВ НА ЗДОРОВЬЕ ЧЕЛОВЕКА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2626920" y="4292640"/>
            <a:ext cx="6265800" cy="22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: Патракеева Татьяна 11а класс город Сыктывкар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Вывод: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отребление наркотиков опасно для жизни человек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!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аркоманы – это угроза не только для близких людей, но и для всего социального общества. Наркотики – это фальшивое представление о счастье. Наркотики разрушают семьи. Наркотики препятствуют творческому и духовному развит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def6"/>
                </a:solidFill>
                <a:latin typeface="Arial"/>
              </a:rPr>
              <a:t>Список литературы: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Цель: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br>
              <a:rPr sz="4000"/>
            </a:br>
            <a:r>
              <a:rPr b="1" i="1" lang="en-US" sz="4000" spc="-1" strike="noStrike">
                <a:solidFill>
                  <a:srgbClr val="dfdef6"/>
                </a:solidFill>
                <a:latin typeface="Arial"/>
              </a:rPr>
              <a:t>Исследовать какой вред наносит употребление наркотиков физическому здоровью человек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знать что такое нарко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учить какие виды наркотиков существую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яснить негативное влияние наркотиков на нервную систему чело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dfdef6"/>
                </a:solidFill>
                <a:latin typeface="Arial"/>
              </a:rPr>
              <a:t>Что такое наркотики?</a:t>
            </a:r>
            <a:br>
              <a:rPr sz="2000"/>
            </a:b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Наркотик - это любое химическое соединение, которое воздействует на функционирование организма. Злоупотребление наркотиками - это их употребление любым неприемлемым с медицинской и социальной точек зрения образом или приемлемым, но неправильным. </a:t>
            </a:r>
            <a:br>
              <a:rPr sz="1800"/>
            </a:b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се наркотики независимо от пути введения в организм в большей или меньшей степени обязательно повреждаю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914400" y="2492280"/>
            <a:ext cx="822960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ервную систему (в том числе головной мозг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ммунную систему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ечень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ердц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легк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0" y="4869000"/>
            <a:ext cx="844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835280" y="112536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ркотик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можно разделить на катег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539640" y="1700280"/>
            <a:ext cx="165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1332000" y="1773360"/>
            <a:ext cx="1079280" cy="172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2843280" y="1773360"/>
            <a:ext cx="71280" cy="129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564000" y="1700280"/>
            <a:ext cx="43344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572000" y="1844640"/>
            <a:ext cx="71928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651640" y="1700280"/>
            <a:ext cx="79200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877080" y="1557360"/>
            <a:ext cx="100800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2349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лириа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08000" y="3500280"/>
            <a:ext cx="15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пресса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763640" y="3068640"/>
            <a:ext cx="17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ссоциати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493080" y="2852640"/>
            <a:ext cx="1163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иои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651640" y="3141720"/>
            <a:ext cx="116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427640" y="321300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сиходел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653080" y="2852640"/>
            <a:ext cx="22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сихостимулято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312320" y="242100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мпатоге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Виды наркотиков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каин              Экстази      Геро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1542960" cy="216216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2268360" y="2276640"/>
            <a:ext cx="1447920" cy="219996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3"/>
          <a:stretch/>
        </p:blipFill>
        <p:spPr>
          <a:xfrm>
            <a:off x="4140360" y="2349360"/>
            <a:ext cx="2076120" cy="192420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4"/>
          <a:stretch/>
        </p:blipFill>
        <p:spPr>
          <a:xfrm>
            <a:off x="6516720" y="2276640"/>
            <a:ext cx="12952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ркотик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другие вещества, потребление которых легко вызывает у людей болезненное привыкание (кокаин, алкоголь, опиаты, амфетамин и др.), влияют на деятельность мозговой системы вознаграждения. Стимуляция этой системы порождает чувство удовлетворения и заставляет человека повторять те формы поведения, которые способствовали его достижению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fdef6"/>
                </a:solidFill>
                <a:latin typeface="Arial"/>
              </a:rPr>
              <a:t>СКАНОГРАММЫ МОЗГОВЫХ СТРУКТУР НАРКОМАНА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- Прилежащее ядро                                                                                                                      - Миндалина                                                                                                                                        - Сублентикулярная часть миндали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- Вентральная область покрыш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- Префронтальная ко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0581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fdef6"/>
                </a:solidFill>
                <a:latin typeface="Arial"/>
              </a:rPr>
              <a:t>Микрофотографии прилежащего ядра животных, находящихся под воздействием ненаркотических веществ: дендриты с обычным количеством шипиков – выростов, улавливающих нервные сигналы (</a:t>
            </a:r>
            <a:r>
              <a:rPr b="1" i="1" lang="ru-RU" sz="1600" spc="-1" strike="noStrike">
                <a:solidFill>
                  <a:srgbClr val="dfdef6"/>
                </a:solidFill>
                <a:latin typeface="Arial"/>
              </a:rPr>
              <a:t>слева и в центре</a:t>
            </a:r>
            <a:r>
              <a:rPr b="1" lang="ru-RU" sz="1600" spc="-1" strike="noStrike">
                <a:solidFill>
                  <a:srgbClr val="dfdef6"/>
                </a:solidFill>
                <a:latin typeface="Arial"/>
              </a:rPr>
              <a:t>).</a:t>
            </a:r>
            <a:br>
              <a:rPr sz="1600"/>
            </a:br>
            <a:r>
              <a:rPr b="1" lang="ru-RU" sz="1600" spc="-1" strike="noStrike">
                <a:solidFill>
                  <a:srgbClr val="dfdef6"/>
                </a:solidFill>
                <a:latin typeface="Arial"/>
              </a:rPr>
              <a:t>У животных, пристрастившихся к кокаину, шипиков на дендритах гораздо больше (</a:t>
            </a:r>
            <a:r>
              <a:rPr b="1" i="1" lang="ru-RU" sz="1600" spc="-1" strike="noStrike">
                <a:solidFill>
                  <a:srgbClr val="dfdef6"/>
                </a:solidFill>
                <a:latin typeface="Arial"/>
              </a:rPr>
              <a:t>справа</a:t>
            </a:r>
            <a:r>
              <a:rPr b="1" lang="ru-RU" sz="1600" spc="-1" strike="noStrike">
                <a:solidFill>
                  <a:srgbClr val="dfdef6"/>
                </a:solidFill>
                <a:latin typeface="Arial"/>
              </a:rPr>
              <a:t>).</a:t>
            </a:r>
            <a:br>
              <a:rPr sz="1600"/>
            </a:br>
            <a:endParaRPr b="0" lang="en-US" sz="1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96400" y="2422440"/>
            <a:ext cx="77281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1403280" y="2421000"/>
            <a:ext cx="6193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7T15:28:26Z</dcterms:created>
  <dc:creator>User</dc:creator>
  <dc:description/>
  <dc:language>en-US</dc:language>
  <cp:lastModifiedBy>User</cp:lastModifiedBy>
  <dcterms:modified xsi:type="dcterms:W3CDTF">2009-11-10T14:37:58Z</dcterms:modified>
  <cp:revision>7</cp:revision>
  <dc:subject/>
  <dc:title>ВЛИЯНИЕ НАРКОТИКОВ НА ЗДОРОВЬЕ ЧЕЛОВЕКА</dc:title>
</cp:coreProperties>
</file>